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Sans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85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9239A-1AEC-466E-BD38-1E84DC7A6F5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8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284B6-3690-4781-8AA4-A3AFEC46C6EA}" type="slidenum">
              <a:rPr b="0" lang="cs-CZ" sz="1200" spc="-1" strike="noStrike">
                <a:solidFill>
                  <a:srgbClr val="003d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d61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FDF8-39C2-4237-9F8F-A7CF34A3A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EF60-88DA-4271-9646-08FEF5B20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12FD-84DB-4B8F-8A30-7C278C73D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3088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82840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23336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3088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82840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D194-6D05-47AD-9DC4-547F11282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233360" y="0"/>
            <a:ext cx="6794640" cy="48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3061-3F5C-4560-8D63-F78D5760F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3088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82840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23336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3088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82840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0A1CE-2633-47D7-A5B1-7D159A067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CA774-23F7-4E7C-9AAE-9E3454C40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86643-A5EA-4099-AA4A-903E6E40C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CF596-8D27-4E2B-9532-777FEE88E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F9CF5-8B5B-4319-8C7F-DE6F4535E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70B9-4115-49A8-A37A-A09664951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1233360" y="0"/>
            <a:ext cx="6794640" cy="48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D5F7B-6698-4E98-941E-560A6285C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78075-BE8E-4C0E-9136-B639BA161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91616-6F79-4E40-9105-F9AD522AB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336C8-FF35-42BA-B01D-AE86D2721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077CA-933B-46A6-98C3-D80813636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D82EE-8B84-4D28-B3B6-D2C1A9C70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3088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82840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123336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53088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582840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1148C-0431-48FC-BB9E-9418FBE05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DFD1-B5FE-44EE-820A-A16293B09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6629-8D03-4607-8C7B-B42ED4491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233360" y="0"/>
            <a:ext cx="6794640" cy="48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B7EA-EAAB-4BB8-83B0-68428CB8A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F01B-34D1-49C7-A40D-1F3CE00DB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D6BD-67D1-4AD0-9DAA-E357FD936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8047-2DEF-4E93-B81E-65F079256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3240" y="0"/>
            <a:ext cx="8024760" cy="107964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Click to edit the outline text format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con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Thir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3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our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4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if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5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ix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6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ven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1233360" y="6244920"/>
            <a:ext cx="1371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2914560" y="62370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207120" y="6244920"/>
            <a:ext cx="1835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ill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A1FB3-D6A2-4847-8DE2-CAFB9FCC5AF7}" type="slidenum">
              <a:rPr b="0" lang="cs-CZ" sz="1200" spc="-1" strike="noStrike">
                <a:solidFill>
                  <a:srgbClr val="000000"/>
                </a:solidFill>
                <a:latin typeface="Gill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8628120" y="558720"/>
            <a:ext cx="522360" cy="522360"/>
          </a:xfrm>
          <a:prstGeom prst="rect">
            <a:avLst/>
          </a:prstGeom>
          <a:solidFill>
            <a:srgbClr val="d311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6" name="Rectangle 10"/>
          <p:cNvSpPr/>
          <p:nvPr/>
        </p:nvSpPr>
        <p:spPr>
          <a:xfrm>
            <a:off x="8621640" y="0"/>
            <a:ext cx="522360" cy="522360"/>
          </a:xfrm>
          <a:prstGeom prst="rect">
            <a:avLst/>
          </a:prstGeom>
          <a:solidFill>
            <a:srgbClr val="c2c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7" name="Rectangle 11"/>
          <p:cNvSpPr/>
          <p:nvPr/>
        </p:nvSpPr>
        <p:spPr>
          <a:xfrm>
            <a:off x="8066160" y="558720"/>
            <a:ext cx="522360" cy="52236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8" name="Rectangle 12"/>
          <p:cNvSpPr/>
          <p:nvPr/>
        </p:nvSpPr>
        <p:spPr>
          <a:xfrm>
            <a:off x="8066160" y="0"/>
            <a:ext cx="522360" cy="522360"/>
          </a:xfrm>
          <a:prstGeom prst="rect">
            <a:avLst/>
          </a:prstGeom>
          <a:solidFill>
            <a:srgbClr val="fdb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pic>
        <p:nvPicPr>
          <p:cNvPr id="9" name="Picture 15" descr="pp_podtisk"/>
          <p:cNvPicPr/>
          <p:nvPr/>
        </p:nvPicPr>
        <p:blipFill>
          <a:blip r:embed="rId2"/>
          <a:stretch/>
        </p:blipFill>
        <p:spPr>
          <a:xfrm>
            <a:off x="0" y="1341360"/>
            <a:ext cx="892080" cy="551664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Sans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240" y="0"/>
            <a:ext cx="8024760" cy="107964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233360" y="1989000"/>
            <a:ext cx="679464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Click to edit the outline text format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343080" indent="-343080" algn="ctr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con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343080" indent="-343080" algn="ctr">
              <a:spcBef>
                <a:spcPts val="499"/>
              </a:spcBef>
              <a:buClr>
                <a:srgbClr val="003d61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Thir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3" marL="343080" indent="-343080" algn="ctr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our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4" marL="343080" indent="-343080" algn="ctr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if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5" marL="343080" indent="-343080" algn="ctr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ix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6" marL="343080" indent="-343080" algn="ctr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ven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8628120" y="558720"/>
            <a:ext cx="522360" cy="522360"/>
          </a:xfrm>
          <a:prstGeom prst="rect">
            <a:avLst/>
          </a:prstGeom>
          <a:solidFill>
            <a:srgbClr val="d311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8621640" y="0"/>
            <a:ext cx="522360" cy="522360"/>
          </a:xfrm>
          <a:prstGeom prst="rect">
            <a:avLst/>
          </a:prstGeom>
          <a:solidFill>
            <a:srgbClr val="c2c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8066160" y="558720"/>
            <a:ext cx="522360" cy="52236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8066160" y="0"/>
            <a:ext cx="522360" cy="522360"/>
          </a:xfrm>
          <a:prstGeom prst="rect">
            <a:avLst/>
          </a:prstGeom>
          <a:solidFill>
            <a:srgbClr val="fdb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pic>
        <p:nvPicPr>
          <p:cNvPr id="53" name="Picture 12" descr="pp_podtisk"/>
          <p:cNvPicPr/>
          <p:nvPr/>
        </p:nvPicPr>
        <p:blipFill>
          <a:blip r:embed="rId2"/>
          <a:stretch/>
        </p:blipFill>
        <p:spPr>
          <a:xfrm>
            <a:off x="0" y="1341360"/>
            <a:ext cx="892080" cy="5516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" descr="logo IOP + EU + text - 1"/>
          <p:cNvPicPr/>
          <p:nvPr/>
        </p:nvPicPr>
        <p:blipFill>
          <a:blip r:embed="rId3"/>
          <a:stretch/>
        </p:blipFill>
        <p:spPr>
          <a:xfrm>
            <a:off x="1116000" y="5157720"/>
            <a:ext cx="5545080" cy="620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" descr=""/>
          <p:cNvPicPr/>
          <p:nvPr/>
        </p:nvPicPr>
        <p:blipFill>
          <a:blip r:embed="rId4"/>
          <a:stretch/>
        </p:blipFill>
        <p:spPr>
          <a:xfrm>
            <a:off x="6815160" y="5157720"/>
            <a:ext cx="1428840" cy="62568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6"/>
          <p:cNvSpPr/>
          <p:nvPr/>
        </p:nvSpPr>
        <p:spPr>
          <a:xfrm>
            <a:off x="2124000" y="6140520"/>
            <a:ext cx="5256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3d61"/>
                </a:solidFill>
                <a:latin typeface="GillSans"/>
              </a:rPr>
              <a:t>Tento Projekt technické pomoci 6.1 Ministerstva zdravotnictví je spolufinancován Evropskou unií z Evropského fondu pro regionální rozvoj. </a:t>
            </a:r>
            <a:endParaRPr b="0" lang="en-US" sz="12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Sans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8"/>
          <p:cNvSpPr/>
          <p:nvPr/>
        </p:nvSpPr>
        <p:spPr>
          <a:xfrm>
            <a:off x="-12600" y="1968480"/>
            <a:ext cx="9156600" cy="488952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pic>
        <p:nvPicPr>
          <p:cNvPr id="95" name="Picture 9" descr="logo_mzcr"/>
          <p:cNvPicPr/>
          <p:nvPr/>
        </p:nvPicPr>
        <p:blipFill>
          <a:blip r:embed="rId2"/>
          <a:stretch/>
        </p:blipFill>
        <p:spPr>
          <a:xfrm>
            <a:off x="647640" y="682560"/>
            <a:ext cx="6737400" cy="593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3" descr="pp_titul_podtisk"/>
          <p:cNvPicPr/>
          <p:nvPr/>
        </p:nvPicPr>
        <p:blipFill>
          <a:blip r:embed="rId3"/>
          <a:stretch/>
        </p:blipFill>
        <p:spPr>
          <a:xfrm>
            <a:off x="0" y="1989000"/>
            <a:ext cx="812880" cy="4869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Click to edit the outline text format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con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Thir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3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our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4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if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5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ix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6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ven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Sans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4"/>
          </p:nvPr>
        </p:nvSpPr>
        <p:spPr>
          <a:xfrm>
            <a:off x="1220760" y="6244920"/>
            <a:ext cx="1370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5"/>
          </p:nvPr>
        </p:nvSpPr>
        <p:spPr>
          <a:xfrm>
            <a:off x="291600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6"/>
          </p:nvPr>
        </p:nvSpPr>
        <p:spPr>
          <a:xfrm>
            <a:off x="6207120" y="6244920"/>
            <a:ext cx="1835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Gill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4CA8D-A992-426E-8629-15F23973A101}" type="slidenum">
              <a:rPr b="0" lang="cs-CZ" sz="1200" spc="-1" strike="noStrike">
                <a:solidFill>
                  <a:srgbClr val="ffffff"/>
                </a:solidFill>
                <a:latin typeface="Gill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s://opzp.cz/dokumenty/harmonogram-vyzev/" TargetMode="Externa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s://efekt.gov.cz/cz/dotacni-programy/130452" TargetMode="Externa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www.sfzp.cz/dotace-a-pujcky/modernizacni-fond/dokumenty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4"/>
          <p:cNvSpPr/>
          <p:nvPr/>
        </p:nvSpPr>
        <p:spPr>
          <a:xfrm>
            <a:off x="1187280" y="-130320"/>
            <a:ext cx="679464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042920" y="3212640"/>
            <a:ext cx="633744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  </a:t>
            </a:r>
            <a:br>
              <a:rPr sz="2000"/>
            </a:b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826920" y="1197000"/>
            <a:ext cx="745344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3d61"/>
                </a:solidFill>
                <a:latin typeface="GillSans"/>
              </a:rPr>
              <a:t>Seminář na téma:</a:t>
            </a:r>
            <a:endParaRPr b="0" lang="en-US" sz="32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d61"/>
                </a:solidFill>
                <a:latin typeface="GillSans"/>
              </a:rPr>
              <a:t>83. a 84. výzva IROP</a:t>
            </a:r>
            <a:endParaRPr b="0" lang="en-US" sz="32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3d61"/>
                </a:solidFill>
                <a:latin typeface="GillSans"/>
              </a:rPr>
              <a:t>16. září 2025</a:t>
            </a:r>
            <a:endParaRPr b="0" lang="en-US" sz="32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1"/>
              </a:solidFill>
              <a:latin typeface="Garamond"/>
            </a:endParaRPr>
          </a:p>
        </p:txBody>
      </p:sp>
      <p:pic>
        <p:nvPicPr>
          <p:cNvPr id="148" name="Obrázek 3" descr=""/>
          <p:cNvPicPr/>
          <p:nvPr/>
        </p:nvPicPr>
        <p:blipFill>
          <a:blip r:embed="rId1"/>
          <a:stretch/>
        </p:blipFill>
        <p:spPr>
          <a:xfrm>
            <a:off x="957240" y="1100160"/>
            <a:ext cx="5559480" cy="1150920"/>
          </a:xfrm>
          <a:prstGeom prst="rect">
            <a:avLst/>
          </a:prstGeom>
          <a:ln w="0">
            <a:noFill/>
          </a:ln>
        </p:spPr>
      </p:pic>
      <p:pic>
        <p:nvPicPr>
          <p:cNvPr id="149" name="Obrázek 5" descr="Obsah obrázku snímek obrazovky, Písmo, Elektricky modrá, Grafika&#10;&#10;Obsah vygenerovaný umělou inteligencí může být nesprávný."/>
          <p:cNvPicPr/>
          <p:nvPr/>
        </p:nvPicPr>
        <p:blipFill>
          <a:blip r:embed="rId2"/>
          <a:stretch/>
        </p:blipFill>
        <p:spPr>
          <a:xfrm>
            <a:off x="1042920" y="5394240"/>
            <a:ext cx="4438800" cy="11509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3d61"/>
                </a:solidFill>
                <a:latin typeface="GillSans"/>
              </a:rPr>
              <a:t>Operační program Životní prostředí 2021-2027</a:t>
            </a:r>
            <a:endParaRPr b="1" lang="en-US" sz="32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Operační program Životní prostředí 2021-2027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813960" y="1268280"/>
            <a:ext cx="7790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Cíl: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mezi hlavní obecně stanovené cíle patří ochrana a zajištění kvalitního prostředí pro život obyvatel Česka, omezení negativních dopadů lidské činnosti na životní prostředí a klima a příspěvek k řešení problémů životního prostředí a klimatu na evropské a globální úrovni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Období: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 2021-2027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Alokace pro ČR: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cca</a:t>
            </a: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61 mld. Kč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GillSans"/>
              </a:rPr>
              <a:t>Důležité: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u specifického cíle 1.1 a 1.2 nejsou podporovány projekty realizované na území hl. m. Prahy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Operační program Životní prostředí 2021-2027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899640" y="1197000"/>
            <a:ext cx="77043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b050"/>
                </a:solidFill>
                <a:latin typeface="GillSans"/>
              </a:rPr>
              <a:t>Specifický cíl 1.1 Podpora energetické účinnosti a snižování emisí skleníkových plynů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GillSans"/>
              </a:rPr>
              <a:t>Opatření 1.1.1 Snížení energetické náročnosti veřejných budov a veřejné infrastruktury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15360" indent="-31536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Podporované aktivity (projekty):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683280" indent="-18396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komplexní, či návazné stavební úpravy budov vedoucí ke zlepšení tepelně technických vlastností obvodových konstrukcí budovy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683280" indent="-18396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systémy využívající odpadní teplo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683280" indent="-18396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systémy nuceného větrání s rekuperací odpadního tepla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683280" indent="-18396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rekonstrukce otopné soustavy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683280" indent="-18396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ostatní opatření vedoucí ke snížení energetické náročnosti budovy ve všech aspektech jejího provozu např.: zavedení energetického managementu, vč. řídícího softwaru a měřících a řídících prvků pro optimalizaci výroby a spotřeby energie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Operační program Životní prostředí 2021-2027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922320" y="1628640"/>
            <a:ext cx="7299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opatření je možné kombinovat s aktivitami v 1.1.3, 1.1.4 a 1.2.1 do jednoho komplexního projektu (jako součást komplexního projektu může být způsobilým výdajem i dobíjecí stanice pro vozidla na elektropohon)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Výše dotace: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podpora je poskytována prostřednictvím </a:t>
            </a:r>
            <a:r>
              <a:rPr b="0" lang="cs-CZ" sz="2000" spc="-1" strike="noStrike" u="sng">
                <a:solidFill>
                  <a:srgbClr val="c00000"/>
                </a:solidFill>
                <a:uFillTx/>
                <a:latin typeface="GillSans"/>
              </a:rPr>
              <a:t>tzv. jednotkových nákladů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 (zjednodušené metody vykazování nákladů) pro jednotlivá opatření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399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3d61"/>
                </a:solidFill>
                <a:latin typeface="GillSans"/>
              </a:rPr>
              <a:t>Blíže se podpoře formou jednotkových nákladů věnuje příloha č. 03 Pravidel pro žadatele a příjemce podpory v Operačním programu Životní prostředí 2021-2027 Metodika zjednodušených metod vykazování s kategorizací položek rozpočtu.</a:t>
            </a:r>
            <a:endParaRPr b="0" lang="en-US" sz="16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Operační program Životní prostředí 2021-2027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94920" y="1268280"/>
            <a:ext cx="777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lvl="1" marL="397440" algn="just">
              <a:lnSpc>
                <a:spcPct val="107000"/>
              </a:lnSpc>
              <a:spcBef>
                <a:spcPts val="4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GillSans"/>
              </a:rPr>
              <a:t>Opatření 1.1.2 Snížení energetické náročnosti/zvýšení účinnosti technologických procesů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397440" algn="just">
              <a:lnSpc>
                <a:spcPct val="107000"/>
              </a:lnSpc>
              <a:spcBef>
                <a:spcPts val="499"/>
              </a:spcBef>
              <a:spcAft>
                <a:spcPts val="799"/>
              </a:spcAft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Podporované aktivity (projekty): 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1172520" indent="-298440" algn="just">
              <a:lnSpc>
                <a:spcPct val="107000"/>
              </a:lnSpc>
              <a:spcBef>
                <a:spcPts val="499"/>
              </a:spcBef>
              <a:spcAft>
                <a:spcPts val="799"/>
              </a:spcAft>
              <a:buClr>
                <a:srgbClr val="003d6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snížení energetické náročnosti/zvýšení energetické účinnosti gastro provozů (např. školských, sociálních, či zdravotnických zařízení)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1172520" indent="-298440" algn="just">
              <a:lnSpc>
                <a:spcPct val="107000"/>
              </a:lnSpc>
              <a:spcBef>
                <a:spcPts val="499"/>
              </a:spcBef>
              <a:spcAft>
                <a:spcPts val="799"/>
              </a:spcAft>
              <a:buClr>
                <a:srgbClr val="003d6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snížení energetické náročnosti/zvýšení energetické účinnosti provozu prádelen (např. sociálních, či zdravotnických zařízení)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1172520" indent="-298440" algn="just">
              <a:lnSpc>
                <a:spcPct val="107000"/>
              </a:lnSpc>
              <a:spcBef>
                <a:spcPts val="499"/>
              </a:spcBef>
              <a:spcAft>
                <a:spcPts val="799"/>
              </a:spcAft>
              <a:buClr>
                <a:srgbClr val="003d6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snížení energetické náročnosti/zvýšení energetické účinnosti u dalších technologických zařízení ve veřejných budovách a infrastruktuře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397440" algn="just">
              <a:lnSpc>
                <a:spcPct val="107000"/>
              </a:lnSpc>
              <a:spcBef>
                <a:spcPts val="499"/>
              </a:spcBef>
              <a:spcAft>
                <a:spcPts val="799"/>
              </a:spcAft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Výše dotace:</a:t>
            </a:r>
            <a:r>
              <a:rPr b="1" lang="cs-CZ" sz="1100" spc="-1" strike="noStrike">
                <a:solidFill>
                  <a:srgbClr val="003d61"/>
                </a:solidFill>
                <a:latin typeface="Calibri"/>
                <a:ea typeface="Calibri"/>
              </a:rPr>
              <a:t>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50 % způsobilých výdajů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1172520" indent="-29844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Operační program Životní prostředí 2021-2027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944280" y="1268280"/>
            <a:ext cx="773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GillSans"/>
              </a:rPr>
              <a:t>Opatření 1.1.3 Zlepšení kvality vnitřního prostředí veřejných budov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288000" indent="-28800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Podporované aktivity (projekty):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623880" indent="-16812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modernizace vnitřního osvětlení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623880" indent="-16812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opatření k eliminaci negativních akustických jevů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623880" indent="-16812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vnější stínící prvky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623880" indent="-168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288000" indent="-28800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opatření je možné podpořit pouze v kombinaci s aktivitami v opatření 1.1.1, jako součást komplexní revitalizace budovy, vyjma instalace vnějších stínících prvků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288000" indent="-28800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288000" indent="-28800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Výše dotace: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podpora je poskytována prostřednictvím </a:t>
            </a:r>
            <a:r>
              <a:rPr b="0" lang="cs-CZ" sz="2000" spc="-1" strike="noStrike" u="sng">
                <a:solidFill>
                  <a:srgbClr val="c00000"/>
                </a:solidFill>
                <a:uFillTx/>
                <a:latin typeface="GillSans"/>
              </a:rPr>
              <a:t>tzv. jednotkových nákladů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 (zjednodušené metody vykazování nákladů) pro jednotlivá opatření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623880" indent="-168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3d61"/>
                </a:solidFill>
                <a:latin typeface="GillSans"/>
              </a:rPr>
              <a:t>Blíže se podpoře formou jednotkových nákladů věnuje příloha č. 03 Pravidel pro žadatele a příjemce podpory v Operačním programu Životní prostředí 2021-2027 Metodika zjednodušených metod vykazování s kategorizací položek rozpočtu.</a:t>
            </a:r>
            <a:endParaRPr b="0" lang="en-US" sz="1600" spc="-1" strike="noStrike">
              <a:solidFill>
                <a:srgbClr val="003d61"/>
              </a:solidFill>
              <a:latin typeface="GillSans"/>
            </a:endParaRPr>
          </a:p>
          <a:p>
            <a:pPr marL="288000" indent="-28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Operační program Životní prostředí 2021-2027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24000" y="116532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lvl="1" marL="383760" algn="just">
              <a:lnSpc>
                <a:spcPct val="107000"/>
              </a:lnSpc>
              <a:spcBef>
                <a:spcPts val="4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GillSans"/>
              </a:rPr>
              <a:t>Opatření 1.1.4 Zvýšení adaptability veřejných budov na změnu klimatu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383760" algn="just">
              <a:lnSpc>
                <a:spcPct val="107000"/>
              </a:lnSpc>
              <a:spcBef>
                <a:spcPts val="499"/>
              </a:spcBef>
              <a:spcAft>
                <a:spcPts val="799"/>
              </a:spcAft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Podporované projekty: 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1014840" indent="-288000" algn="just">
              <a:lnSpc>
                <a:spcPct val="107000"/>
              </a:lnSpc>
              <a:spcBef>
                <a:spcPts val="499"/>
              </a:spcBef>
              <a:spcAft>
                <a:spcPts val="799"/>
              </a:spcAft>
              <a:buClr>
                <a:srgbClr val="003d6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technologie pro akumulaci, úpravu a rozvod šedých a srážkových vod v budovách za účelem splachování, zálivky, praní a dalších relevantních užití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383760" algn="just">
              <a:lnSpc>
                <a:spcPct val="107000"/>
              </a:lnSpc>
              <a:spcBef>
                <a:spcPts val="499"/>
              </a:spcBef>
              <a:spcAft>
                <a:spcPts val="799"/>
              </a:spcAft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opatření je možné podpořit pouze v kombinaci s aktivitami opatření 1.1.1, jako součást komplexní revitalizace budovy nebo v kombinaci s aktivitami opatření 1.1.5, jako součást výstavby nových veřejných budov; samostatná podpora opatření je možná v rámci opatření 1.3.4 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383760" algn="just">
              <a:lnSpc>
                <a:spcPct val="107000"/>
              </a:lnSpc>
              <a:spcBef>
                <a:spcPts val="499"/>
              </a:spcBef>
              <a:spcAft>
                <a:spcPts val="799"/>
              </a:spcAft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Výše dotace: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podpora je poskytována prostřednictvím </a:t>
            </a:r>
            <a:r>
              <a:rPr b="0" lang="cs-CZ" sz="2000" spc="-1" strike="noStrike" u="sng">
                <a:solidFill>
                  <a:srgbClr val="c00000"/>
                </a:solidFill>
                <a:uFillTx/>
                <a:latin typeface="GillSans"/>
              </a:rPr>
              <a:t>tzv. jednotkových nákladů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 (zjednodušené metody vykazování nákladů) pro jednotlivá opatření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383760" algn="just">
              <a:lnSpc>
                <a:spcPct val="107000"/>
              </a:lnSpc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3d61"/>
                </a:solidFill>
                <a:latin typeface="GillSans"/>
              </a:rPr>
              <a:t>	</a:t>
            </a:r>
            <a:r>
              <a:rPr b="0" i="1" lang="cs-CZ" sz="1600" spc="-1" strike="noStrike">
                <a:solidFill>
                  <a:srgbClr val="003d61"/>
                </a:solidFill>
                <a:latin typeface="GillSans"/>
              </a:rPr>
              <a:t>Blíže se podpoře formou jednotkových nákladů věnuje příloha č. 03 Pravidel pro žadatele </a:t>
            </a:r>
            <a:r>
              <a:rPr b="0" i="1" lang="cs-CZ" sz="1600" spc="-1" strike="noStrike">
                <a:solidFill>
                  <a:srgbClr val="003d61"/>
                </a:solidFill>
                <a:latin typeface="GillSans"/>
              </a:rPr>
              <a:t>	</a:t>
            </a:r>
            <a:r>
              <a:rPr b="0" i="1" lang="cs-CZ" sz="1600" spc="-1" strike="noStrike">
                <a:solidFill>
                  <a:srgbClr val="003d61"/>
                </a:solidFill>
                <a:latin typeface="GillSans"/>
              </a:rPr>
              <a:t>a příjemce podpory v Operačním programu Životní prostředí 2021-2027 Metodika </a:t>
            </a:r>
            <a:r>
              <a:rPr b="0" i="1" lang="cs-CZ" sz="1600" spc="-1" strike="noStrike">
                <a:solidFill>
                  <a:srgbClr val="003d61"/>
                </a:solidFill>
                <a:latin typeface="GillSans"/>
              </a:rPr>
              <a:t>	</a:t>
            </a:r>
            <a:r>
              <a:rPr b="0" i="1" lang="cs-CZ" sz="1600" spc="-1" strike="noStrike">
                <a:solidFill>
                  <a:srgbClr val="003d61"/>
                </a:solidFill>
                <a:latin typeface="GillSans"/>
              </a:rPr>
              <a:t>zjednodušených metod vykazování s kategorizací položek rozpočtu.</a:t>
            </a:r>
            <a:endParaRPr b="0" lang="en-US" sz="1600" spc="-1" strike="noStrike">
              <a:solidFill>
                <a:srgbClr val="003d61"/>
              </a:solidFill>
              <a:latin typeface="GillSans"/>
            </a:endParaRPr>
          </a:p>
          <a:p>
            <a:pPr marL="288000" indent="-28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Operační program Životní prostředí 2021-2027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0760" y="1052640"/>
            <a:ext cx="7899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b050"/>
                </a:solidFill>
                <a:latin typeface="GillSans"/>
              </a:rPr>
              <a:t>Specifický cíl 1.2 Podpora energie z obnovitelných zdrojů v souladu se směrnicí (EU) 2018/2001, včetně kritérií udržitelnosti stanovených v uvedené směrnici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GillSans"/>
              </a:rPr>
              <a:t>Opatření 1.2.1 Výstavba a rekonstrukce obnovitelných zdrojů energie pro veřejné budovy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267480" indent="-26748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Podporované aktivity (projekty):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579240" indent="-15588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výměna zdroje pro vytápění, chlazení nebo přípravu teplé vody využívajícího fosilní paliva nebo elektrickou energii za: </a:t>
            </a:r>
            <a:r>
              <a:rPr b="0" i="1" lang="cs-CZ" sz="2000" spc="-1" strike="noStrike">
                <a:solidFill>
                  <a:srgbClr val="003d61"/>
                </a:solidFill>
                <a:latin typeface="GillSans"/>
              </a:rPr>
              <a:t>tepelné čerpadlo, kotel na biomasu, zařízení pro kombinovanou výrobu elektřiny a tepla či chladu využívající OZE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579240" indent="-15588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součástí projektu může být i rekonstrukce otopné soustavy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579240" indent="-15588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instalace solárně – termických systémů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579240" indent="-15588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instalace fotovoltaických systémů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579240" indent="-15588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rekonstrukce, či výměna stávajícího OZE za OZE, včetně rekonstrukce otopné soustavy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579240" indent="-15588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zavedení ener. managementu včetně řídícího softwaru a měřících a řídících prvků pro optimalizaci výroby a spotřeby energie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Operační program Životní prostředí 2021-2027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885600" y="1557360"/>
            <a:ext cx="7646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podporovaná opatření je možné kombinovat s aktivitami opatření 1.1.1 a 1.1.3 do jednoho kombinovaného projektu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Výše dotace: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podpora je poskytována prostřednictvím </a:t>
            </a:r>
            <a:r>
              <a:rPr b="0" lang="cs-CZ" sz="2000" spc="-1" strike="noStrike" u="sng">
                <a:solidFill>
                  <a:srgbClr val="c00000"/>
                </a:solidFill>
                <a:uFillTx/>
                <a:latin typeface="GillSans"/>
              </a:rPr>
              <a:t>tzv. jednotkových nákladů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 (zjednodušené metody vykazování nákladů) pro jednotlivá opatření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399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3d61"/>
                </a:solidFill>
                <a:latin typeface="GillSans"/>
              </a:rPr>
              <a:t>Blíže se podpoře formou jednotkových nákladů věnuje příloha č. 03 Pravidel pro žadatele a příjemce podpory v Operačním programu Životní prostředí 2021-2027 Metodika zjednodušených metod vykazování s kategorizací položek rozpočtu.</a:t>
            </a:r>
            <a:endParaRPr b="0" lang="en-US" sz="16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Operační program Životní prostředí 2021-2027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06320" y="116532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GillSans"/>
              </a:rPr>
              <a:t>Opatření 1.2.2 Výstavba a rekonstrukce obnovitelných zdrojů energie pro zajištění dodávek systémové energie ve veřejném sektoru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298440" indent="-29844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Podporované aktivity (projekty):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770760" indent="-29844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instalace: </a:t>
            </a:r>
            <a:r>
              <a:rPr b="0" i="1" lang="cs-CZ" sz="2000" spc="-1" strike="noStrike">
                <a:solidFill>
                  <a:srgbClr val="003d61"/>
                </a:solidFill>
                <a:latin typeface="GillSans"/>
              </a:rPr>
              <a:t>tepelného čerpadla, kotle na biomasu, zařízení pro kombinovanou výrobu elektřiny a tepla či chladu využívající OZE, solárně termických systémů, fotovoltaických systémů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770760" indent="-29844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k zajištění dodávek systémové energie do veřejné infrastruktury např.: </a:t>
            </a:r>
            <a:r>
              <a:rPr b="0" i="1" lang="cs-CZ" sz="2000" spc="-1" strike="noStrike">
                <a:solidFill>
                  <a:srgbClr val="003d61"/>
                </a:solidFill>
                <a:latin typeface="GillSans"/>
              </a:rPr>
              <a:t>vodohospodářské infrastruktury, kompostáren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770760" indent="-29844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zavedení energetického managementu včetně řídícího softwaru a měřících a řídících prvků pro optimalizaci výroby a spotřeby energie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298440" indent="-29844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Výše dotace: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podpora bude poskytována do </a:t>
            </a:r>
            <a:r>
              <a:rPr b="0" lang="cs-CZ" sz="2000" spc="-1" strike="noStrike">
                <a:solidFill>
                  <a:srgbClr val="c00000"/>
                </a:solidFill>
                <a:latin typeface="GillSans"/>
              </a:rPr>
              <a:t>maximální hranice 50 % celkových způsobilých výdajů projektů prostřednictvím </a:t>
            </a:r>
            <a:r>
              <a:rPr b="0" lang="cs-CZ" sz="2000" spc="-1" strike="noStrike" u="sng">
                <a:solidFill>
                  <a:srgbClr val="c00000"/>
                </a:solidFill>
                <a:uFillTx/>
                <a:latin typeface="GillSans"/>
              </a:rPr>
              <a:t>tzv. jednotkových nákladů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 (zjednodušené metody vykazování nákladů) na daný typ opatření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298440" indent="-298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3d61"/>
                </a:solidFill>
                <a:latin typeface="GillSans"/>
              </a:rPr>
              <a:t>Modernizační fond</a:t>
            </a:r>
            <a:endParaRPr b="1" lang="en-US" sz="32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Operační program Životní prostředí 2021-2027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Doporučuji průběžně kontrolovat </a:t>
            </a:r>
            <a:r>
              <a:rPr b="1" lang="cs-CZ" sz="2000" spc="-1" strike="noStrike">
                <a:solidFill>
                  <a:srgbClr val="c00000"/>
                </a:solidFill>
                <a:latin typeface="GillSans"/>
              </a:rPr>
              <a:t>harmonogram plánovaných výzev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K dispozici zde: </a:t>
            </a:r>
            <a:r>
              <a:rPr b="1" lang="cs-CZ" sz="2000" spc="-1" strike="noStrike" u="sng">
                <a:solidFill>
                  <a:srgbClr val="003d61"/>
                </a:solidFill>
                <a:uFillTx/>
                <a:latin typeface="GillSans"/>
                <a:hlinkClick r:id="rId1"/>
              </a:rPr>
              <a:t>Harmonogram výzev – Operační program Životní prostředí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3d61"/>
                </a:solidFill>
                <a:latin typeface="GillSans"/>
              </a:rPr>
              <a:t>EFEKT III</a:t>
            </a:r>
            <a:endParaRPr b="1" lang="en-US" sz="32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EFEKT III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pic>
        <p:nvPicPr>
          <p:cNvPr id="192" name="Zástupný obsah 4" descr=""/>
          <p:cNvPicPr/>
          <p:nvPr/>
        </p:nvPicPr>
        <p:blipFill>
          <a:blip r:embed="rId1"/>
          <a:stretch/>
        </p:blipFill>
        <p:spPr>
          <a:xfrm>
            <a:off x="4932360" y="3068640"/>
            <a:ext cx="3425760" cy="3541680"/>
          </a:xfrm>
          <a:prstGeom prst="rect">
            <a:avLst/>
          </a:prstGeom>
          <a:ln w="0">
            <a:noFill/>
          </a:ln>
        </p:spPr>
      </p:pic>
      <p:sp>
        <p:nvSpPr>
          <p:cNvPr id="193" name="TextovéPole 2"/>
          <p:cNvSpPr/>
          <p:nvPr/>
        </p:nvSpPr>
        <p:spPr>
          <a:xfrm>
            <a:off x="900000" y="1268280"/>
            <a:ext cx="77043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2060"/>
                </a:solidFill>
                <a:latin typeface="GillSans"/>
              </a:rPr>
              <a:t>Státní program na podporu úspor energie EFEKT III</a:t>
            </a:r>
            <a:endParaRPr b="0" lang="en-US" sz="2000" spc="-1" strike="noStrike">
              <a:solidFill>
                <a:srgbClr val="003d61"/>
              </a:solidFill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d61"/>
              </a:solidFill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2060"/>
                </a:solidFill>
                <a:latin typeface="GillSans"/>
              </a:rPr>
              <a:t>Cíl:  </a:t>
            </a:r>
            <a:r>
              <a:rPr b="0" lang="cs-CZ" sz="2000" spc="-1" strike="noStrike">
                <a:solidFill>
                  <a:srgbClr val="002060"/>
                </a:solidFill>
                <a:latin typeface="GillSans"/>
              </a:rPr>
              <a:t>podpora energetických úspor a snižování energetické náročnosti</a:t>
            </a:r>
            <a:endParaRPr b="0" lang="en-US" sz="2000" spc="-1" strike="noStrike">
              <a:solidFill>
                <a:srgbClr val="003d61"/>
              </a:solidFill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d61"/>
              </a:solidFill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2060"/>
                </a:solidFill>
                <a:latin typeface="GillSans"/>
              </a:rPr>
              <a:t>Období: </a:t>
            </a:r>
            <a:r>
              <a:rPr b="0" lang="cs-CZ" sz="2000" spc="-1" strike="noStrike">
                <a:solidFill>
                  <a:srgbClr val="002060"/>
                </a:solidFill>
                <a:latin typeface="GillSans"/>
              </a:rPr>
              <a:t>2022–2027</a:t>
            </a:r>
            <a:endParaRPr b="0" lang="en-US" sz="2000" spc="-1" strike="noStrike">
              <a:solidFill>
                <a:srgbClr val="003d61"/>
              </a:solidFill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d61"/>
              </a:solidFill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2060"/>
                </a:solidFill>
                <a:latin typeface="GillSans"/>
              </a:rPr>
              <a:t>Alokace: </a:t>
            </a:r>
            <a:r>
              <a:rPr b="0" lang="cs-CZ" sz="2000" spc="-1" strike="noStrike">
                <a:solidFill>
                  <a:srgbClr val="002060"/>
                </a:solidFill>
                <a:latin typeface="GillSans"/>
              </a:rPr>
              <a:t>max 160 mil. Kč/rok</a:t>
            </a:r>
            <a:endParaRPr b="0" lang="en-US" sz="2000" spc="-1" strike="noStrike">
              <a:solidFill>
                <a:srgbClr val="003d61"/>
              </a:solidFill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d61"/>
              </a:solidFill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d61"/>
              </a:solidFill>
              <a:latin typeface="Garamond"/>
            </a:endParaRPr>
          </a:p>
        </p:txBody>
      </p:sp>
    </p:spTree>
  </p:cSld>
  <p:transition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899640" y="1341360"/>
            <a:ext cx="7704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OSA 1 Předprojektová příprava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maximálně 80 % způsobilých výdajů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Podporované aktivity např.: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743040" indent="-20016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zpracování vstupní studie potenciálu energetických úspor ke snížení energetické náročnosti budov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743040" indent="-20016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zpracování následných komplexních energetických studií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743040" indent="-20016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zpracování zadávací dokumentace pro veřejnou zakázku pro výběrové řízení na dodavatele nebo technické asistence s žádostí o podporu do národních i evropských dotačních titulů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EFEKT III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EFEKT III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69960" y="1268280"/>
            <a:ext cx="7921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OSA 4 Energetický management a koncepce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298440" indent="-298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298440" indent="-29844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maximálně 90 % způsobilých výdajů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298440" indent="-29844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298440" indent="-29844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Podporované aktivity např.: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646200" indent="-17388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podpora návrhu opatření nezbytných pro snižování energetické náročnosti a efektivního řízení nakládání s energií v energetickém hospodářství žadatele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646200" indent="-17388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příprava na certifikaci managementu hospodaření s energií systému energetického řízení v souladu s normou ČSN EN ISO 50001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646200" indent="-17388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příspěvek na služby energetického manažera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646200" indent="-17388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646200" indent="-17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646200" indent="-173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GillSans"/>
              </a:rPr>
              <a:t>Další informace naleznete zde: </a:t>
            </a:r>
            <a:r>
              <a:rPr b="1" lang="cs-CZ" sz="2000" spc="-1" strike="noStrike" u="sng">
                <a:solidFill>
                  <a:srgbClr val="003d61"/>
                </a:solidFill>
                <a:uFillTx/>
                <a:latin typeface="GillSans"/>
                <a:hlinkClick r:id="rId1"/>
              </a:rPr>
              <a:t>MPO Efekt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298440" indent="-298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298440" indent="-298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Děkuji za pozornost!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Modernizační fond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826920" y="1125000"/>
            <a:ext cx="77774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Cíl: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snížení emisí skleníkových plynů, zvýšení energetické účinnosti a navýšení podílu obnovitelných zdrojů energie v celkovém mixu energetických zdrojů do roku 2030 a přispění k dekarbonizaci české ekonomiky v horizontu 2050 pomocí strategických investic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Období: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 2021-2030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Alokace pro ČR: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cca 500 mld. Kč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Pro financování fondu jsou celkově vyčleněna: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743040" indent="-20016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2 % emisních povolenek v období 2021–2030, 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743040" indent="-20016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2,5 % povolenek dražených mezi roky 2024–2030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Modernizační fond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pic>
        <p:nvPicPr>
          <p:cNvPr id="155" name="Zástupný obsah 4" descr=""/>
          <p:cNvPicPr/>
          <p:nvPr/>
        </p:nvPicPr>
        <p:blipFill>
          <a:blip r:embed="rId1"/>
          <a:stretch/>
        </p:blipFill>
        <p:spPr>
          <a:xfrm>
            <a:off x="1009800" y="2349360"/>
            <a:ext cx="6930720" cy="3975120"/>
          </a:xfrm>
          <a:prstGeom prst="rect">
            <a:avLst/>
          </a:prstGeom>
          <a:ln w="0">
            <a:noFill/>
          </a:ln>
        </p:spPr>
      </p:pic>
      <p:sp>
        <p:nvSpPr>
          <p:cNvPr id="156" name="TextovéPole 8"/>
          <p:cNvSpPr/>
          <p:nvPr/>
        </p:nvSpPr>
        <p:spPr>
          <a:xfrm>
            <a:off x="1127160" y="1413000"/>
            <a:ext cx="669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Souhrnný přehled programů určených pro financování opatření z prostředků Modernizačního fondu</a:t>
            </a:r>
            <a:endParaRPr b="0" lang="en-US" sz="2000" spc="-1" strike="noStrike">
              <a:solidFill>
                <a:srgbClr val="003d61"/>
              </a:solidFill>
              <a:latin typeface="Garamond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Modernizační fond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900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Program č. 3 -&gt; ENERG -&gt; Energetická účinnost a snižování spotřeby energie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885960" indent="-34308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podpora na opatření pro zvýšení energetické účinnosti a snížení produkce skleníkových plynů v průmyslu, v podnikání, ve veřejných budovách a v rezidenčním sektoru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3d61"/>
                </a:solidFill>
                <a:latin typeface="GillSans"/>
              </a:rPr>
              <a:t>Podprogram č. 3C</a:t>
            </a: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 -&gt; </a:t>
            </a:r>
            <a:r>
              <a:rPr b="1" lang="sv-SE" sz="2000" spc="-1" strike="noStrike">
                <a:solidFill>
                  <a:srgbClr val="003d61"/>
                </a:solidFill>
                <a:latin typeface="GillSans"/>
              </a:rPr>
              <a:t>Energetické úspory ve veřejných budovách (ENERGov)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885960" indent="-34308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podprogram je zaměřen na </a:t>
            </a:r>
            <a:r>
              <a:rPr b="0" lang="cs-CZ" sz="2000" spc="-1" strike="noStrike" u="sng">
                <a:solidFill>
                  <a:srgbClr val="c00000"/>
                </a:solidFill>
                <a:uFillTx/>
                <a:latin typeface="GillSans"/>
              </a:rPr>
              <a:t>podporu komplexních opatření ke zlepšení energetické účinnosti a využití obnovitelných zdrojů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ve veřejných budovách, budovách státu a veřejné infrastruktuře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Modernizační fond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01720" y="1077840"/>
            <a:ext cx="7657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Cíloví příjemci: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v</a:t>
            </a:r>
            <a:r>
              <a:rPr b="0" lang="pl-PL" sz="2000" spc="-1" strike="noStrike">
                <a:solidFill>
                  <a:srgbClr val="003d61"/>
                </a:solidFill>
                <a:latin typeface="GillSans"/>
              </a:rPr>
              <a:t>eřejné a státní subjekty a jejich organizace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284400" indent="-284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284400" indent="-284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Popis podporované oblasti: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284400" indent="-28440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základním cílem je </a:t>
            </a:r>
            <a:r>
              <a:rPr b="0" lang="cs-CZ" sz="2000" spc="-1" strike="noStrike">
                <a:solidFill>
                  <a:srgbClr val="c00000"/>
                </a:solidFill>
                <a:latin typeface="GillSans"/>
              </a:rPr>
              <a:t>komplexní podpora revitalizace budov veřejného sektoru a veřejné infrastruktury s cílem snížení konečné spotřeby energie a využití OZE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; podpora dále klade důraz na zajištění kvality vnitřního prostředí v budově a adaptaci na změnu klimatu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284400" indent="-284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284400" indent="-284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Podprogram umožňuje podporovat např.: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284400" indent="-28440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snížení energetické náročnosti budov a infrastruktury a systémů technologické spotřeby energie,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284400" indent="-28440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výstavbu a modernizaci obnovitelných zdrojů energie pro veřejné budovy a pro zajištění dodávek systémové energie ve veřejném sektoru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284400" indent="-28440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zlepšení kvality vnitřního prostředí a zvýšení adaptability budov na změnu klimatu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Modernizační fond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Program č. 4 -&gt; Modernizace dopravy (TRANSPORT)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676080" indent="-18180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podpora projektů podnikatelských subjektů pro pořízení čistých vozidel a vozidel s nulovými emisemi a výstavbu příslušné neveřejné infrastruktury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676080" indent="-18180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12120" indent="-31212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Podprogram č. 4B -&gt; Modernizace veřejné dopravy (TRANSGov)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676080" indent="-18180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podprogram je zaměřen na podporu projektů pro veřejné subjekty, podniky s majetkovou účastí státu a veřejných subjektů a veřejné nepodnikatelské subjekty a pro podnikatelské subjekty se závazkem veřejné služby, </a:t>
            </a:r>
            <a:r>
              <a:rPr b="0" lang="cs-CZ" sz="2000" spc="-1" strike="noStrike" u="sng">
                <a:solidFill>
                  <a:srgbClr val="c00000"/>
                </a:solidFill>
                <a:uFillTx/>
                <a:latin typeface="GillSans"/>
              </a:rPr>
              <a:t>pro pořízení čistých vozidel a vozidel s nulovými emisemi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pro veřejnou dopravu či pro výstavbu příslušné infrastruktury pro veřejnou dopravu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Modernizační fond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71480" y="1165320"/>
            <a:ext cx="7718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Cíloví příjemci podpory: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veřejné subjekty a subjekty se závazkem poskytování veřejné služby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284400" indent="-284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284400" indent="-284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Popis podporované oblasti: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284400" indent="-28440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podporovány jsou projekty čisté mobility prostřednictvím </a:t>
            </a:r>
            <a:r>
              <a:rPr b="0" lang="cs-CZ" sz="2000" spc="-1" strike="noStrike">
                <a:solidFill>
                  <a:srgbClr val="c00000"/>
                </a:solidFill>
                <a:latin typeface="GillSans"/>
              </a:rPr>
              <a:t>pořízení čistých silničních nebo drážních vozidel nebo vozidel s nulovými emisemi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 s ohledem na budoucí vývoj alternativních technologií a jejich technickou a ekonomickou dostupnost, </a:t>
            </a:r>
            <a:r>
              <a:rPr b="0" lang="cs-CZ" sz="2000" spc="-1" strike="noStrike">
                <a:solidFill>
                  <a:srgbClr val="c00000"/>
                </a:solidFill>
                <a:latin typeface="GillSans"/>
              </a:rPr>
              <a:t>výstavby infrastruktury – dobíjecích/plnících stanic pro tato vozidla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a dalších opatření vedoucích ke snížení energetické spotřeby v dopravě, umožňující přechod na bezemisní formu dopravy a opatření bezprostředně spojené se zvýšením energetické účinnosti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284400" indent="-28440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284400" indent="-284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Příklady podporovaných opatření: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284400" indent="-28440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obměna vozového parku ve veřejném sektoru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284400" indent="-28440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výstavba dobíjecí infrastruktury a plnicích stanic pro alternativní paliva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Modernizační fond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Doporučuji průběžně kontrolovat dokument: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3d61"/>
                </a:solidFill>
                <a:latin typeface="GillSans"/>
              </a:rPr>
              <a:t>„</a:t>
            </a:r>
            <a:r>
              <a:rPr b="0" i="1" lang="cs-CZ" sz="2000" spc="-1" strike="noStrike">
                <a:solidFill>
                  <a:srgbClr val="003d61"/>
                </a:solidFill>
                <a:latin typeface="GillSans"/>
              </a:rPr>
              <a:t>Přehled výzev pro příjem žádostí o podporu z programů Modernizačního fondu“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K dispozici zde: </a:t>
            </a:r>
            <a:r>
              <a:rPr b="0" lang="cs-CZ" sz="2000" spc="-1" strike="noStrike" u="sng">
                <a:solidFill>
                  <a:srgbClr val="003d61"/>
                </a:solidFill>
                <a:uFillTx/>
                <a:latin typeface="GillSans"/>
                <a:hlinkClick r:id="rId1"/>
              </a:rPr>
              <a:t>Dokumenty – SFŽP ČR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2T08:56:53Z</dcterms:created>
  <dc:creator>kobid</dc:creator>
  <dc:description/>
  <dc:language>en-US</dc:language>
  <cp:lastModifiedBy>Nečasová Kateřina, Ing.</cp:lastModifiedBy>
  <cp:lastPrinted>2021-03-30T06:05:26Z</cp:lastPrinted>
  <dcterms:modified xsi:type="dcterms:W3CDTF">2025-09-16T06:51:24Z</dcterms:modified>
  <cp:revision>725</cp:revision>
  <dc:subject/>
  <dc:title>Snímek 1</dc:title>
</cp:coreProperties>
</file>